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AF8-4076-4E15-8A78-FF1A8438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8E81-E9E4-4675-B8FB-FB20FBD6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1343-094D-40C7-9BE9-9C8638EF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FB5-A60A-48A6-AC97-F4E79A19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B4E-1A96-40E5-ABC3-2FBC1141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517-8427-4CF3-B741-6854CD97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E1B-D832-41B6-B4B0-5822553D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837-776A-4369-9A6A-D0F8C431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FAC-C4C4-4E3B-BDE8-3AD11819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CF2-39EE-4ADD-8AE7-36274A5D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F6B-BE20-4515-885F-B911E62B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8B2-0D84-4FA9-AA4C-09D15FF9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AE2A-F224-4842-959F-91F976F40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ream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ambl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goals for the new governm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overnment of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more perfect un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for common def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general wel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domestic tranquility (pe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lib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reamble_large"/>
          <p:cNvPicPr/>
          <p:nvPr/>
        </p:nvPicPr>
        <p:blipFill>
          <a:blip r:embed="rId1"/>
          <a:stretch/>
        </p:blipFill>
        <p:spPr>
          <a:xfrm>
            <a:off x="4613400" y="1219320"/>
            <a:ext cx="4292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eder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252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legated Pow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iven only to the nation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served Pow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given only to the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urrent Pow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ared by national and state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federalis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Supremacy Cl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stitution is the supreme law of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law or government action that conflicts with the Constitution is cancell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government cannot go against the nation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image018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95880" y="1066680"/>
            <a:ext cx="46051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ecessary and Proper” Cla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171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s the clause made the Air Force possi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7960" y="1371240"/>
            <a:ext cx="426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gress shall have the power to make all laws which shall be necessary and proper to carry out its duties” [Article I, section 8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t allows Congress to take on powers not specifically listed in the Constit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it, Congress could not take action on modern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so known as the “elastic claus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tealth-bomber-18"/>
          <p:cNvPicPr/>
          <p:nvPr/>
        </p:nvPicPr>
        <p:blipFill>
          <a:blip r:embed="rId1"/>
          <a:stretch/>
        </p:blipFill>
        <p:spPr>
          <a:xfrm>
            <a:off x="609480" y="1447920"/>
            <a:ext cx="3094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paration of P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48520" y="1600200"/>
            <a:ext cx="274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is divided in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 bran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gisl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xecu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ud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ystem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s and bal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eeps any one branch from getting too pow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image001"/>
          <p:cNvPicPr/>
          <p:nvPr/>
        </p:nvPicPr>
        <p:blipFill>
          <a:blip r:embed="rId1"/>
          <a:stretch/>
        </p:blipFill>
        <p:spPr>
          <a:xfrm>
            <a:off x="152280" y="1447920"/>
            <a:ext cx="610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iving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greatest accomplishments of the Constitution is to realize it had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llows itself to be changed as times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mend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 a change or addition to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mend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proposed by a 2/3 vote of both houses of Cong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 vote of 2/3 of state legisl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must be approved by ¾ of state legislatures to take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be approved by ¾ of state ratifying conventions, although this has never hap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amendments have been ad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ABdye4_03_13"/>
          <p:cNvPicPr/>
          <p:nvPr/>
        </p:nvPicPr>
        <p:blipFill>
          <a:blip r:embed="rId1"/>
          <a:stretch/>
        </p:blipFill>
        <p:spPr>
          <a:xfrm>
            <a:off x="380880" y="1295280"/>
            <a:ext cx="41148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change the Constitu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iginal Constitution worked well in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ntury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changes, it would not work for us today,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very was a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men could not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rican-Americans were not guaranteed the right to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ate was chosen by State legisl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dent and Vice President chosen separ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endments have resolved these issues to modern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wait"/>
          <p:cNvPicPr/>
          <p:nvPr/>
        </p:nvPicPr>
        <p:blipFill>
          <a:blip r:embed="rId1"/>
          <a:stretch/>
        </p:blipFill>
        <p:spPr>
          <a:xfrm>
            <a:off x="4724280" y="182880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amendments aren’t a good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endment process is difficult, on purpose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posed amendments never mak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roposed amendments reflect the beliefs of the times.  The process attempts to keep the Constitution tim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usa"/>
          <p:cNvPicPr/>
          <p:nvPr/>
        </p:nvPicPr>
        <p:blipFill>
          <a:blip r:embed="rId1"/>
          <a:stretch/>
        </p:blipFill>
        <p:spPr>
          <a:xfrm>
            <a:off x="0" y="1724040"/>
            <a:ext cx="46483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76: The Senate shall be abolis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filibuster2-senate"/>
          <p:cNvPicPr/>
          <p:nvPr/>
        </p:nvPicPr>
        <p:blipFill>
          <a:blip r:embed="rId1"/>
          <a:stretch/>
        </p:blipFill>
        <p:spPr>
          <a:xfrm>
            <a:off x="1066680" y="1295280"/>
            <a:ext cx="739152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 the Peopl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562360" y="121932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is founded by its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serves the people, not the other way a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webquote%20jefferson"/>
          <p:cNvPicPr/>
          <p:nvPr/>
        </p:nvPicPr>
        <p:blipFill>
          <a:blip r:embed="rId1"/>
          <a:stretch/>
        </p:blipFill>
        <p:spPr>
          <a:xfrm>
            <a:off x="304920" y="1219320"/>
            <a:ext cx="4743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1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All acts of war should be put to a national vote. Anyone voting yes has to register as a volunteer for service in the United States Arm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kbbd2"/>
          <p:cNvPicPr/>
          <p:nvPr/>
        </p:nvPicPr>
        <p:blipFill>
          <a:blip r:embed="rId1"/>
          <a:stretch/>
        </p:blipFill>
        <p:spPr>
          <a:xfrm>
            <a:off x="1905120" y="2717640"/>
            <a:ext cx="57150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3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An attempt to limit the personal wealth to $1 mill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millionaire"/>
          <p:cNvPicPr/>
          <p:nvPr/>
        </p:nvPicPr>
        <p:blipFill>
          <a:blip r:embed="rId1"/>
          <a:stretch/>
        </p:blipFill>
        <p:spPr>
          <a:xfrm>
            <a:off x="228600" y="1752480"/>
            <a:ext cx="4343400" cy="4343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ab19"/>
          <p:cNvPicPr/>
          <p:nvPr/>
        </p:nvPicPr>
        <p:blipFill>
          <a:blip r:embed="rId2"/>
          <a:stretch/>
        </p:blipFill>
        <p:spPr>
          <a:xfrm>
            <a:off x="4800600" y="2408400"/>
            <a:ext cx="419112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0: The Congress shall have the power to prohibit the physical desecration of the flag of the United States."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flag_burning"/>
          <p:cNvPicPr/>
          <p:nvPr/>
        </p:nvPicPr>
        <p:blipFill>
          <a:blip r:embed="rId1"/>
          <a:stretch/>
        </p:blipFill>
        <p:spPr>
          <a:xfrm>
            <a:off x="1447920" y="2133720"/>
            <a:ext cx="6553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more perfect uni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tronger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to avoid the weakness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ticles of Con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s would give up some power to the new feder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5252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vide for the common defens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76920" y="15238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fend the 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f 1787 when this was written, the U.S. was threatened by British forces in Canada and Spanish in Flor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gives the federal government authority to maintain the mil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aircraft-carrier-15"/>
          <p:cNvPicPr/>
          <p:nvPr/>
        </p:nvPicPr>
        <p:blipFill>
          <a:blip r:embed="rId1"/>
          <a:stretch/>
        </p:blipFill>
        <p:spPr>
          <a:xfrm>
            <a:off x="609480" y="1219320"/>
            <a:ext cx="3822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ablish Jus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ederal government would be the protector of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uld have the final say in legal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deral court system would be created to do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judge_schwedler"/>
          <p:cNvPicPr/>
          <p:nvPr/>
        </p:nvPicPr>
        <p:blipFill>
          <a:blip r:embed="rId1"/>
          <a:stretch/>
        </p:blipFill>
        <p:spPr>
          <a:xfrm>
            <a:off x="4572000" y="1568520"/>
            <a:ext cx="4114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mote the General Welfa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0" y="152352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government would have the responsibility to do what it can to improve the lives of its citize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e government has the power to take action on behalf of its citize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ow does the government accomplish thi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american%20flag"/>
          <p:cNvPicPr/>
          <p:nvPr/>
        </p:nvPicPr>
        <p:blipFill>
          <a:blip r:embed="rId1"/>
          <a:stretch/>
        </p:blipFill>
        <p:spPr>
          <a:xfrm>
            <a:off x="457200" y="1371600"/>
            <a:ext cx="3956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sure domestic tranquilit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has a duty to keep the peace at h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 control criminal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the authority to help society run smooth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sure the Blessings of Liberty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the basic freedoms that all citizens enj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s on our rights and freedoms to all the generations that follow (i.e. YOU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statue-of-liberty"/>
          <p:cNvPicPr/>
          <p:nvPr/>
        </p:nvPicPr>
        <p:blipFill>
          <a:blip r:embed="rId1"/>
          <a:stretch/>
        </p:blipFill>
        <p:spPr>
          <a:xfrm>
            <a:off x="593640" y="1219320"/>
            <a:ext cx="3684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nciples behind the Constit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pular Sovereign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ople have the right to rule themsel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mited Govern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government cannot do anything it w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deral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ower is shared with the national and state gover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webquote%20henry"/>
          <p:cNvPicPr/>
          <p:nvPr/>
        </p:nvPicPr>
        <p:blipFill>
          <a:blip r:embed="rId1"/>
          <a:stretch/>
        </p:blipFill>
        <p:spPr>
          <a:xfrm>
            <a:off x="4724280" y="1600200"/>
            <a:ext cx="4202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16:11:03Z</dcterms:created>
  <dc:creator>Phil McGinnis</dc:creator>
  <dc:description/>
  <dc:language>en-US</dc:language>
  <cp:lastModifiedBy>Phillip McGinnis</cp:lastModifiedBy>
  <dcterms:modified xsi:type="dcterms:W3CDTF">2010-10-19T15:02:37Z</dcterms:modified>
  <cp:revision>11</cp:revision>
  <dc:subject/>
  <dc:title>Constitutional Principles</dc:title>
</cp:coreProperties>
</file>